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DEE8-F4AD-4A9E-A029-46D334A9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B0B-37F9-4F09-9339-2A7A40A8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D98-5A60-4E41-A96B-36CB88CE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F1C-6B9F-457E-BE8D-0589FBB8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AEC-6D5C-470C-907A-B0054D60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D7B-D119-4508-99BA-2F2A5FA4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1A9A-8482-4AC8-A3FF-B9735D15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140-FD07-4443-B916-AF636107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B302-4361-43B0-9231-EBB7B66E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349-4453-4B2E-A413-433780AF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42A-9B1D-4570-BE4F-FCA9E4F4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065-6ED9-4239-9B80-15404167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 N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E243-2D61-499B-9EB2-392C55226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4545000" cy="26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Japan’s Feud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449568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ta Worl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.____,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https://upload.wikimedia.org/wikipedia/commons/a/a6/Samurai_on_horseback0.jpg"/>
          <p:cNvPicPr/>
          <p:nvPr/>
        </p:nvPicPr>
        <p:blipFill>
          <a:blip r:embed="rId1"/>
          <a:stretch/>
        </p:blipFill>
        <p:spPr>
          <a:xfrm>
            <a:off x="5052960" y="1066680"/>
            <a:ext cx="3792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gr1-dun"/>
          <p:cNvPicPr/>
          <p:nvPr/>
        </p:nvPicPr>
        <p:blipFill>
          <a:blip r:embed="rId1"/>
          <a:stretch/>
        </p:blipFill>
        <p:spPr>
          <a:xfrm>
            <a:off x="0" y="685800"/>
            <a:ext cx="7229520" cy="5419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5079960" y="762120"/>
            <a:ext cx="3664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ho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id he ru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peror’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.  In fac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ho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s a milit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ctator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ed Jap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im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imyo were Japanese lords or no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imyo had to obey the Shogun and provide military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imyo controlled large estates.  They were great land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daimyo"/>
          <p:cNvPicPr/>
          <p:nvPr/>
        </p:nvPicPr>
        <p:blipFill>
          <a:blip r:embed="rId1"/>
          <a:stretch/>
        </p:blipFill>
        <p:spPr>
          <a:xfrm>
            <a:off x="380880" y="457200"/>
            <a:ext cx="3733920" cy="5410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4305960" y="1371600"/>
            <a:ext cx="414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myo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at landow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feudal Jap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were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est no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to the Shog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amur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military protection for their lands, Japanese daimyo recruited samur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urai were Japanese warri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urai had to provide military service and obey the Daimyo and Shog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matabeib"/>
          <p:cNvPicPr/>
          <p:nvPr/>
        </p:nvPicPr>
        <p:blipFill>
          <a:blip r:embed="rId1"/>
          <a:stretch/>
        </p:blipFill>
        <p:spPr>
          <a:xfrm>
            <a:off x="2895480" y="533520"/>
            <a:ext cx="3333960" cy="3276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065240" y="4114800"/>
            <a:ext cx="699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urai were Japanese warrior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had to be loyal, brave,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arl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of Bush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urai warriors had to follow the Code of Bush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de of Bushido was similar to European chival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murai had to be loyal to his daimyo and show no e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seppuku3"/>
          <p:cNvPicPr/>
          <p:nvPr/>
        </p:nvPicPr>
        <p:blipFill>
          <a:blip r:embed="rId1"/>
          <a:stretch/>
        </p:blipFill>
        <p:spPr>
          <a:xfrm>
            <a:off x="2666880" y="304920"/>
            <a:ext cx="3429000" cy="4267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990360" y="4800600"/>
            <a:ext cx="73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a samurai lost his honor, he 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commit ritual suicide or seppuk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for Ref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mpare and contrast Japanese and European feudalism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y did the Japanese emperor lose his powe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o was the Shogun and why was he powerful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was the relationship between the Daimyo and the Shogun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for Reflec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5. Who were Samurai and what was the Code of Bushido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6. Define these ter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eudalis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hogu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aimy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amura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de of Bushid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750x750_japan_m"/>
          <p:cNvPicPr/>
          <p:nvPr/>
        </p:nvPicPr>
        <p:blipFill>
          <a:blip r:embed="rId1"/>
          <a:stretch/>
        </p:blipFill>
        <p:spPr>
          <a:xfrm>
            <a:off x="1143000" y="152280"/>
            <a:ext cx="6800760" cy="5257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293480" y="5486400"/>
            <a:ext cx="663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pan is an archipelago in As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mperor Loses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1100s, the emperor of Japan’s power was greatly weakened by civil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le families refused to pay taxes to the emperor.  They grew rich and bought much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ally, one noble family grew more powerful than any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kendo"/>
          <p:cNvPicPr/>
          <p:nvPr/>
        </p:nvPicPr>
        <p:blipFill>
          <a:blip r:embed="rId1"/>
          <a:stretch/>
        </p:blipFill>
        <p:spPr>
          <a:xfrm>
            <a:off x="2057400" y="304920"/>
            <a:ext cx="5105520" cy="4267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913320" y="4648320"/>
            <a:ext cx="72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ble families did not want to ob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mperor.  They wanted po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remember European feudal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s://mrgrayhistory.wikispaces.com/file/view/E_Middle_Ages_-_Japan.JPG/244140813/893x522/E_Middle_Ages_-_Japan.JPG"/>
          <p:cNvPicPr/>
          <p:nvPr/>
        </p:nvPicPr>
        <p:blipFill>
          <a:blip r:embed="rId1"/>
          <a:stretch/>
        </p:blipFill>
        <p:spPr>
          <a:xfrm>
            <a:off x="914400" y="1905120"/>
            <a:ext cx="735156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eudalism in Japan and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0240" y="1984320"/>
            <a:ext cx="3868560" cy="61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52360" y="1984320"/>
            <a:ext cx="3888000" cy="61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2.bp.blogspot.com/-Mz_Xz_Mf8v8/UAy5hUaFqQI/AAAAAAAABdE/a7mI9xgbMi0/s1600/Bodiam%2BCastle.jpg"/>
          <p:cNvPicPr/>
          <p:nvPr/>
        </p:nvPicPr>
        <p:blipFill>
          <a:blip r:embed="rId1"/>
          <a:stretch/>
        </p:blipFill>
        <p:spPr>
          <a:xfrm>
            <a:off x="4724280" y="2895480"/>
            <a:ext cx="4191120" cy="327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happybirthdaywishesimages.com/wp-content/uploads/2013/01/Himeji-Castle.jpg"/>
          <p:cNvPicPr/>
          <p:nvPr/>
        </p:nvPicPr>
        <p:blipFill>
          <a:blip r:embed="rId2"/>
          <a:stretch/>
        </p:blipFill>
        <p:spPr>
          <a:xfrm>
            <a:off x="228600" y="2895480"/>
            <a:ext cx="42670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ud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ystem of feudalism, similar to that found in European feudalism, arose in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feudal society, land is exchanged for military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ese lords gave away some of their land to other people in exchange for loyalty and military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http://gcuonline.georgian.edu/wootton_l/Medieval_files/image004.gif"/>
          <p:cNvPicPr/>
          <p:nvPr/>
        </p:nvPicPr>
        <p:blipFill>
          <a:blip r:embed="rId1"/>
          <a:stretch/>
        </p:blipFill>
        <p:spPr>
          <a:xfrm>
            <a:off x="766800" y="2125800"/>
            <a:ext cx="3594240" cy="3686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eud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0840" y="1844640"/>
            <a:ext cx="386856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8880" y="1892160"/>
            <a:ext cx="3887640" cy="61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the24hourtala.files.wordpress.com/2011/03/feudal2.gif"/>
          <p:cNvPicPr/>
          <p:nvPr/>
        </p:nvPicPr>
        <p:blipFill>
          <a:blip r:embed="rId2"/>
          <a:stretch/>
        </p:blipFill>
        <p:spPr>
          <a:xfrm>
            <a:off x="5267160" y="1838160"/>
            <a:ext cx="345924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hog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der of Japan’s most powerful family forced the emperor to appoint him shog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“Shogun” means “great gener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next 700 years, powerful shoguns governed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11:43Z</dcterms:created>
  <dc:creator>White Plains City School District</dc:creator>
  <dc:description/>
  <dc:language>en-US</dc:language>
  <cp:lastModifiedBy>Elaina Barroso</cp:lastModifiedBy>
  <dcterms:modified xsi:type="dcterms:W3CDTF">2017-12-11T14:45:04Z</dcterms:modified>
  <cp:revision>8</cp:revision>
  <dc:subject/>
  <dc:title>Japan’s Feudal Period</dc:title>
</cp:coreProperties>
</file>